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8.jpeg" ContentType="image/jpeg"/>
  <Override PartName="/ppt/media/image28.png" ContentType="image/png"/>
  <Override PartName="/ppt/media/image3.wmf" ContentType="image/x-wmf"/>
  <Override PartName="/ppt/media/image2.jpeg" ContentType="image/jpeg"/>
  <Override PartName="/ppt/media/image14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9CD-43AE-4CDA-BC7D-20D211CD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3F7-28FE-4EB8-8DAF-E350CCA3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5B6-D702-4B38-9904-E2852C1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43C-A2A3-464B-81AA-0972FF25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929-11C0-4C9C-A569-AAFF903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20A-AB5B-42EF-893D-FACFDF1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F86-8B96-4AF2-8742-F0A1A09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DB7-D005-4FD1-9572-2FD3FCE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52B-BB24-4366-A39D-D702E082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409-9889-4E4C-B56C-25D0549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B1F-FBD5-4EDE-BA8C-CE451DD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49C-99C9-4783-A224-648FD9C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9252-7BD4-4B4E-AFEC-D4A205C30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rshallcavendishdigital.com/articledisplay/40/8155/83890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0-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shing Company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ver Buckle 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12" descr="SBP-WTBook-TitlePage_L.jpg"/>
          <p:cNvPicPr/>
          <p:nvPr/>
        </p:nvPicPr>
        <p:blipFill>
          <a:blip r:embed="rId1"/>
          <a:stretch/>
        </p:blipFill>
        <p:spPr>
          <a:xfrm>
            <a:off x="844560" y="1600200"/>
            <a:ext cx="326376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Left Arrow 6"/>
          <p:cNvSpPr/>
          <p:nvPr/>
        </p:nvSpPr>
        <p:spPr>
          <a:xfrm>
            <a:off x="3276720" y="4191120"/>
            <a:ext cx="2666880" cy="35064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 Publish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ually find this date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ge of a book – the page behind the title p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eft Arrow 4"/>
          <p:cNvSpPr/>
          <p:nvPr/>
        </p:nvSpPr>
        <p:spPr>
          <a:xfrm>
            <a:off x="2362320" y="4495680"/>
            <a:ext cx="1904760" cy="35100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642960" y="1523880"/>
            <a:ext cx="5138640" cy="4953240"/>
          </a:xfrm>
          <a:prstGeom prst="rect">
            <a:avLst/>
          </a:prstGeom>
          <a:ln w="0">
            <a:noFill/>
          </a:ln>
        </p:spPr>
      </p:pic>
      <p:sp>
        <p:nvSpPr>
          <p:cNvPr id="76" name="Left Arrow 7"/>
          <p:cNvSpPr/>
          <p:nvPr/>
        </p:nvSpPr>
        <p:spPr>
          <a:xfrm>
            <a:off x="2286000" y="4343400"/>
            <a:ext cx="2514600" cy="6094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, what was that 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rin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’s an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en, Elizabeth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ltures of the World: Sp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New York: Marshall Cavendish. 2005. Pr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ite_thumbs.gif"/>
          <p:cNvPicPr/>
          <p:nvPr/>
        </p:nvPicPr>
        <p:blipFill>
          <a:blip r:embed="rId1"/>
          <a:stretch/>
        </p:blipFill>
        <p:spPr>
          <a:xfrm>
            <a:off x="825480" y="1523880"/>
            <a:ext cx="741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goes on a web site 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7497720" cy="5622840"/>
          </a:xfrm>
          <a:prstGeom prst="rect">
            <a:avLst/>
          </a:prstGeom>
          <a:ln w="0">
            <a:noFill/>
          </a:ln>
        </p:spPr>
      </p:pic>
      <p:sp>
        <p:nvSpPr>
          <p:cNvPr id="85" name="Left Arrow 4"/>
          <p:cNvSpPr/>
          <p:nvPr/>
        </p:nvSpPr>
        <p:spPr>
          <a:xfrm rot="19056600">
            <a:off x="4397040" y="3790440"/>
            <a:ext cx="5181480" cy="457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of the article on the Web P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51824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Left-Up Arrow 8"/>
          <p:cNvSpPr/>
          <p:nvPr/>
        </p:nvSpPr>
        <p:spPr>
          <a:xfrm>
            <a:off x="6400800" y="914400"/>
            <a:ext cx="2362320" cy="2895480"/>
          </a:xfrm>
          <a:custGeom>
            <a:avLst/>
            <a:gdLst>
              <a:gd name="textAreaLeft" fmla="*/ 288000 w 2362320"/>
              <a:gd name="textAreaRight" fmla="*/ 1757160 w 2362320"/>
              <a:gd name="textAreaTop" fmla="*/ 1995120 h 2895480"/>
              <a:gd name="textAreaBottom" fmla="*/ 2585520 h 2895480"/>
            </a:gdLst>
            <a:ahLst/>
            <a:rect l="textAreaLeft" t="textAreaTop" r="textAreaRight" b="textAreaBottom"/>
            <a:pathLst>
              <a:path w="2362200" h="2895600">
                <a:moveTo>
                  <a:pt x="0" y="2290239"/>
                </a:moveTo>
                <a:lnTo>
                  <a:pt x="590550" y="1684878"/>
                </a:lnTo>
                <a:lnTo>
                  <a:pt x="590550" y="1994964"/>
                </a:lnTo>
                <a:lnTo>
                  <a:pt x="1461564" y="1994964"/>
                </a:lnTo>
                <a:lnTo>
                  <a:pt x="1461564" y="590550"/>
                </a:lnTo>
                <a:lnTo>
                  <a:pt x="1151478" y="590550"/>
                </a:lnTo>
                <a:lnTo>
                  <a:pt x="1756839" y="0"/>
                </a:lnTo>
                <a:lnTo>
                  <a:pt x="2362200" y="590550"/>
                </a:lnTo>
                <a:lnTo>
                  <a:pt x="2052114" y="590550"/>
                </a:lnTo>
                <a:lnTo>
                  <a:pt x="2052114" y="2585514"/>
                </a:lnTo>
                <a:lnTo>
                  <a:pt x="590550" y="2585514"/>
                </a:lnTo>
                <a:lnTo>
                  <a:pt x="590550" y="2895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the Web Page(if it’s different from the article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604200" cy="4952880"/>
          </a:xfrm>
          <a:prstGeom prst="rect">
            <a:avLst/>
          </a:prstGeom>
          <a:ln w="0">
            <a:noFill/>
          </a:ln>
        </p:spPr>
      </p:pic>
      <p:sp>
        <p:nvSpPr>
          <p:cNvPr id="91" name="Curved Right Arrow 5"/>
          <p:cNvSpPr/>
          <p:nvPr/>
        </p:nvSpPr>
        <p:spPr>
          <a:xfrm rot="21231000">
            <a:off x="225000" y="663480"/>
            <a:ext cx="1506600" cy="3471840"/>
          </a:xfrm>
          <a:custGeom>
            <a:avLst/>
            <a:gdLst>
              <a:gd name="textAreaLeft" fmla="*/ 201600 w 1506600"/>
              <a:gd name="textAreaRight" fmla="*/ 1305000 w 1506600"/>
              <a:gd name="textAreaTop" fmla="*/ 726480 h 3471840"/>
              <a:gd name="textAreaBottom" fmla="*/ 2557080 h 34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3" stAng="-5400000" swAng="-5400000"/>
                <a:lnTo>
                  <a:pt x="0" y="11387"/>
                </a:lnTo>
                <a:arcTo wR="21600" hR="9043" stAng="10800000" swAng="-3500110"/>
                <a:lnTo>
                  <a:pt x="16200" y="21313"/>
                </a:lnTo>
                <a:lnTo>
                  <a:pt x="21600" y="19257"/>
                </a:lnTo>
                <a:lnTo>
                  <a:pt x="16200" y="16627"/>
                </a:lnTo>
                <a:lnTo>
                  <a:pt x="16200" y="17798"/>
                </a:lnTo>
                <a:arcTo wR="21600" hR="9043" stAng="7299890" swAng="3312182"/>
                <a:lnTo>
                  <a:pt x="182" y="10215"/>
                </a:lnTo>
                <a:arcTo wR="21600" hR="9043" stAng="-10612071" swAng="5212071"/>
                <a:close/>
              </a:path>
              <a:path fill="darkenLess" w="21600" h="21600">
                <a:moveTo>
                  <a:pt x="21600" y="0"/>
                </a:moveTo>
                <a:arcTo wR="21600" hR="9043" stAng="-5400000" swAng="-5400000"/>
                <a:lnTo>
                  <a:pt x="0" y="9043"/>
                </a:lnTo>
                <a:arcTo wR="21600" hR="9043" stAng="10800000" swAng="-187929"/>
                <a:lnTo>
                  <a:pt x="182" y="10215"/>
                </a:lnTo>
                <a:arcTo wR="21600" hR="9043" stAng="-10612071" swAng="52120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ear was it posted or updat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467480" y="380988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use the most current date you fin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Left Arrow 4"/>
          <p:cNvSpPr/>
          <p:nvPr/>
        </p:nvSpPr>
        <p:spPr>
          <a:xfrm rot="19167600">
            <a:off x="3789360" y="3586320"/>
            <a:ext cx="3798720" cy="66816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ate Posted or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sourc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‘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e’ mea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ition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………………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 quo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n example, authority, or proof &lt; 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everal sources in his research.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………………………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 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information from anoth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specially as an example or proof.  &lt;She told u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 example that would show the class what we meant.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por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everal experts on the sub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 web site by a person who stud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top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400BlackConfederates.jpg"/>
          <p:cNvPicPr/>
          <p:nvPr/>
        </p:nvPicPr>
        <p:blipFill>
          <a:blip r:embed="rId1"/>
          <a:stretch/>
        </p:blipFill>
        <p:spPr>
          <a:xfrm>
            <a:off x="6553080" y="4191120"/>
            <a:ext cx="181764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’s an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nn, Jennifer Hubert. “Between Shades of Gray by Ruta Sepetys”. Reading Rants! Out of the Ordinary Teen Books. 2011. We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CG_homepage_CG_bar.jpg"/>
          <p:cNvPicPr/>
          <p:nvPr/>
        </p:nvPicPr>
        <p:blipFill>
          <a:blip r:embed="rId1"/>
          <a:stretch/>
        </p:blipFill>
        <p:spPr>
          <a:xfrm>
            <a:off x="380880" y="1371600"/>
            <a:ext cx="531828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ebsco.jpg"/>
          <p:cNvPicPr/>
          <p:nvPr/>
        </p:nvPicPr>
        <p:blipFill>
          <a:blip r:embed="rId2"/>
          <a:stretch/>
        </p:blipFill>
        <p:spPr>
          <a:xfrm>
            <a:off x="914400" y="2590920"/>
            <a:ext cx="312408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-sticker.jpg"/>
          <p:cNvPicPr/>
          <p:nvPr/>
        </p:nvPicPr>
        <p:blipFill>
          <a:blip r:embed="rId3"/>
          <a:stretch/>
        </p:blipFill>
        <p:spPr>
          <a:xfrm>
            <a:off x="5562720" y="236232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eader_banner.png"/>
          <p:cNvPicPr/>
          <p:nvPr/>
        </p:nvPicPr>
        <p:blipFill>
          <a:blip r:embed="rId4"/>
          <a:stretch/>
        </p:blipFill>
        <p:spPr>
          <a:xfrm>
            <a:off x="609480" y="3886200"/>
            <a:ext cx="572472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wb_foot_disc.gif"/>
          <p:cNvPicPr/>
          <p:nvPr/>
        </p:nvPicPr>
        <p:blipFill>
          <a:blip r:embed="rId5"/>
          <a:stretch/>
        </p:blipFill>
        <p:spPr>
          <a:xfrm>
            <a:off x="609480" y="4648320"/>
            <a:ext cx="37656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world_book_logo.gif"/>
          <p:cNvPicPr/>
          <p:nvPr/>
        </p:nvPicPr>
        <p:blipFill>
          <a:blip r:embed="rId6"/>
          <a:stretch/>
        </p:blipFill>
        <p:spPr>
          <a:xfrm>
            <a:off x="5867280" y="4876920"/>
            <a:ext cx="1524240" cy="60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logo.gif"/>
          <p:cNvPicPr/>
          <p:nvPr/>
        </p:nvPicPr>
        <p:blipFill>
          <a:blip r:embed="rId7"/>
          <a:stretch/>
        </p:blipFill>
        <p:spPr>
          <a:xfrm>
            <a:off x="6172200" y="1219320"/>
            <a:ext cx="2381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0" name="Left Arrow 5"/>
          <p:cNvSpPr/>
          <p:nvPr/>
        </p:nvSpPr>
        <p:spPr>
          <a:xfrm rot="20597400">
            <a:off x="4866840" y="2943000"/>
            <a:ext cx="3581640" cy="4572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Left Arrow 4"/>
          <p:cNvSpPr/>
          <p:nvPr/>
        </p:nvSpPr>
        <p:spPr>
          <a:xfrm rot="20392800">
            <a:off x="4923000" y="1211040"/>
            <a:ext cx="3200400" cy="8380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26560" cy="6019560"/>
          </a:xfrm>
          <a:prstGeom prst="rect">
            <a:avLst/>
          </a:prstGeom>
          <a:ln w="0">
            <a:noFill/>
          </a:ln>
        </p:spPr>
      </p:pic>
      <p:sp>
        <p:nvSpPr>
          <p:cNvPr id="116" name="Left Arrow 4"/>
          <p:cNvSpPr/>
          <p:nvPr/>
        </p:nvSpPr>
        <p:spPr>
          <a:xfrm rot="20715600">
            <a:off x="3234960" y="3560760"/>
            <a:ext cx="2914560" cy="6541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33520" y="3962520"/>
            <a:ext cx="7848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Arrow 3"/>
          <p:cNvSpPr/>
          <p:nvPr/>
        </p:nvSpPr>
        <p:spPr>
          <a:xfrm rot="19006200">
            <a:off x="7477200" y="3085920"/>
            <a:ext cx="2625480" cy="12920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O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Boston Massacre."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n Histo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mithsonian, n.d. Web. 12 Nov. 2010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tin, James Kirby. "Boston Massacre."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orld Book Student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ld Book, 2010. Web. 12 Nov.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driguez, Joh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oston Massacre for Begin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ew York: Thornton Publish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2010. Print. 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Rulska, Anna M. "Boston Massacre." </a:t>
            </a:r>
            <a:r>
              <a:rPr b="1" i="1" lang="en-US" sz="1900" spc="-1" strike="noStrike">
                <a:solidFill>
                  <a:srgbClr val="ff0000"/>
                </a:solidFill>
                <a:latin typeface="Calibri"/>
              </a:rPr>
              <a:t>Exploring American History: 1550 to 1877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. Marshall Cavendish Digital, 2010. Web. 12 November 2010.</a:t>
            </a:r>
            <a:br>
              <a:rPr sz="1900"/>
            </a:b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&lt;http://www.marshallcavendishdigital.com/articledisplay/40/8155/83890&gt;.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ska, Anna M. "Boston Massacre."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xploring American History: 1550 to 187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Marshall Cavendish Digital, 2010. Web. 12 November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eft Arrow 5"/>
          <p:cNvSpPr/>
          <p:nvPr/>
        </p:nvSpPr>
        <p:spPr>
          <a:xfrm rot="1469400">
            <a:off x="6516360" y="5730840"/>
            <a:ext cx="2133720" cy="10238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job just got really easy! Bibme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ite a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ctu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om the intern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46160" y="1219320"/>
            <a:ext cx="7335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do one togeth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Open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ype ‘Works Cited’ at the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o to the TMS library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lick on ‘Creative Common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Click on ‘Flick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Type in ‘climat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Choose a picture on page 1; click on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½. Save the picture in to your ‘H’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Copy the U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Paste it into the Bibme tool for PHOTOGRAPH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 a PHOTOGRAPH continu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Fill in the rest of the information ask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What if information is missing about the photo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Click on ‘Add to my bibliography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 Copy and paste the citation on your ‘Works Cited’ page in Wo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. SAVE your Word document to your ‘H’ driv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. When you are completely done with your GLOG, copy this Works Cited page to your GLO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I have to cite my sourc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noplagiarism.jpg"/>
          <p:cNvPicPr/>
          <p:nvPr/>
        </p:nvPicPr>
        <p:blipFill>
          <a:blip r:embed="rId1"/>
          <a:stretch/>
        </p:blipFill>
        <p:spPr>
          <a:xfrm>
            <a:off x="334800" y="1676520"/>
            <a:ext cx="7878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cite a 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Program Files\Microsoft Office\Media\CntCD1\ClipArt2\j0229905.wmf"/>
          <p:cNvPicPr/>
          <p:nvPr/>
        </p:nvPicPr>
        <p:blipFill>
          <a:blip r:embed="rId1"/>
          <a:stretch/>
        </p:blipFill>
        <p:spPr>
          <a:xfrm rot="20436000">
            <a:off x="934560" y="1495080"/>
            <a:ext cx="1503360" cy="176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Program Files\Microsoft Office\Media\CntCD1\Animated\j0254490.gif"/>
          <p:cNvPicPr/>
          <p:nvPr/>
        </p:nvPicPr>
        <p:blipFill>
          <a:blip r:embed="rId2"/>
          <a:stretch/>
        </p:blipFill>
        <p:spPr>
          <a:xfrm>
            <a:off x="3276720" y="2133720"/>
            <a:ext cx="3047760" cy="43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magesCAJ6N9HC.jpg"/>
          <p:cNvPicPr/>
          <p:nvPr/>
        </p:nvPicPr>
        <p:blipFill>
          <a:blip r:embed="rId3"/>
          <a:stretch/>
        </p:blipFill>
        <p:spPr>
          <a:xfrm rot="585600">
            <a:off x="6283440" y="1287360"/>
            <a:ext cx="1903320" cy="23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me%20Magazine%20on%20Virginia%20Tech-thumb.jpg"/>
          <p:cNvPicPr/>
          <p:nvPr/>
        </p:nvPicPr>
        <p:blipFill>
          <a:blip r:embed="rId4"/>
          <a:stretch/>
        </p:blipFill>
        <p:spPr>
          <a:xfrm rot="20949000">
            <a:off x="762120" y="3733560"/>
            <a:ext cx="1908000" cy="256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Program Files\Microsoft Office\Media\CntCD1\ClipArt3\j0233553.wmf"/>
          <p:cNvPicPr/>
          <p:nvPr/>
        </p:nvPicPr>
        <p:blipFill>
          <a:blip r:embed="rId5"/>
          <a:stretch/>
        </p:blipFill>
        <p:spPr>
          <a:xfrm rot="387000">
            <a:off x="6324480" y="4191120"/>
            <a:ext cx="20210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 all begins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ith…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st name, Firs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hen, Elizab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eliz koh.jpg"/>
          <p:cNvPicPr/>
          <p:nvPr/>
        </p:nvPicPr>
        <p:blipFill>
          <a:blip r:embed="rId1"/>
          <a:stretch/>
        </p:blipFill>
        <p:spPr>
          <a:xfrm>
            <a:off x="457200" y="1828800"/>
            <a:ext cx="3524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es of the World: S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7" descr="Spain.jpg"/>
          <p:cNvPicPr/>
          <p:nvPr/>
        </p:nvPicPr>
        <p:blipFill>
          <a:blip r:embed="rId1"/>
          <a:stretch/>
        </p:blipFill>
        <p:spPr>
          <a:xfrm>
            <a:off x="380880" y="1295280"/>
            <a:ext cx="386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197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ks of Mr. William Shakespeare; in six volu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5" descr="title pg.png"/>
          <p:cNvPicPr/>
          <p:nvPr/>
        </p:nvPicPr>
        <p:blipFill>
          <a:blip r:embed="rId1"/>
          <a:stretch/>
        </p:blipFill>
        <p:spPr>
          <a:xfrm>
            <a:off x="1073160" y="1600200"/>
            <a:ext cx="280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the book was published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New%20York%20City.jpg"/>
          <p:cNvPicPr/>
          <p:nvPr/>
        </p:nvPicPr>
        <p:blipFill>
          <a:blip r:embed="rId1"/>
          <a:stretch/>
        </p:blipFill>
        <p:spPr>
          <a:xfrm>
            <a:off x="45720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York, New Y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18:09Z</dcterms:created>
  <dc:creator>gel009447</dc:creator>
  <dc:description/>
  <dc:language>en-US</dc:language>
  <cp:lastModifiedBy>gel009447</cp:lastModifiedBy>
  <dcterms:modified xsi:type="dcterms:W3CDTF">2011-04-22T17:23:35Z</dcterms:modified>
  <cp:revision>32</cp:revision>
  <dc:subject/>
  <dc:title>Works Cited</dc:title>
</cp:coreProperties>
</file>